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4477"/>
        <c:axId val="74783002"/>
      </c:barChart>
      <c:catAx>
        <c:axId val="74744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83002"/>
        <c:crosses val="autoZero"/>
        <c:auto val="1"/>
        <c:lblAlgn val="ctr"/>
        <c:lblOffset val="100"/>
        <c:noMultiLvlLbl val="0"/>
      </c:catAx>
      <c:valAx>
        <c:axId val="74783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44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A36-B4C7-44E5-A4BD-BE380732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066-81C1-45E2-AD68-3415141F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5B5-2021-4FB2-9874-8F75620A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FF9-D084-4298-B198-1F912D4E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34B-289D-431E-805E-646E101A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24B-FFC2-4D75-A40B-9B866E8D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6AC-9E0F-4A0E-ADC8-911355AD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2F4-8CA9-4DB3-829D-A9023349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093-BA10-4B6F-9B25-0FD1E804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3C3-D29E-45B6-B6E8-01192200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040-93EC-4E07-AFE8-267FB32E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DE6D-A229-4887-AA4A-AA47F978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77613-9A18-4CD3-93CD-9CACBE2B07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