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8710"/>
        <c:axId val="12926560"/>
      </c:barChart>
      <c:catAx>
        <c:axId val="1968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26560"/>
        <c:crosses val="autoZero"/>
        <c:auto val="1"/>
        <c:lblAlgn val="ctr"/>
        <c:lblOffset val="100"/>
        <c:noMultiLvlLbl val="0"/>
      </c:catAx>
      <c:valAx>
        <c:axId val="129265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CB91-1591-4401-BB4A-A3C26A6F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F44-DA23-45E1-942E-42432DBD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B65F-4A35-4D67-9DB9-188C401E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117-3D75-443D-A862-107D5D61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A3E-440A-48E7-B57C-C9A9E19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790-D556-4C5F-9524-1E8680D4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F22-3593-4DCD-98C8-08480012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42A0-7AD3-4AC0-9CB3-F9982916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1BD-2E13-45BA-84C6-D99CDB8C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EFFA-120B-4546-9BD4-671FEC60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427-F978-404B-8766-CDC61CB7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990D-E50D-4367-885B-958CD025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7F81-6F19-4FB0-9B1E-B7DA6C3EE6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