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97413"/>
        <c:axId val="24178944"/>
      </c:barChart>
      <c:catAx>
        <c:axId val="57097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78944"/>
        <c:crosses val="autoZero"/>
        <c:auto val="1"/>
        <c:lblAlgn val="ctr"/>
        <c:lblOffset val="100"/>
        <c:noMultiLvlLbl val="0"/>
      </c:catAx>
      <c:valAx>
        <c:axId val="24178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97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616-BE5A-4F39-849A-0FBE38F6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13B-605A-41EA-9268-05E4F28A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222-B85E-4418-8CC0-2481593B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EE9-C748-4EE5-B1D9-A6036F7A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E83-9E61-471B-B0E7-F0B8621B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168-9D96-427F-BF17-E457EC1C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E83-D711-474C-A6EF-99DEA1E9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143-0866-4543-A22C-FEA5ADE4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8D9-2627-4142-B0AA-EDABF33F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B42-1113-4020-823D-DA68805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60D-80F3-406E-B8F8-3F225E10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B90-D237-43B3-93F9-9CC04DE1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88862-4D26-4813-9C49-6CD63B2692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