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58457"/>
        <c:axId val="74423500"/>
      </c:barChart>
      <c:catAx>
        <c:axId val="67858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23500"/>
        <c:crosses val="autoZero"/>
        <c:auto val="1"/>
        <c:lblAlgn val="ctr"/>
        <c:lblOffset val="100"/>
        <c:noMultiLvlLbl val="0"/>
      </c:catAx>
      <c:valAx>
        <c:axId val="74423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58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D00-BB33-4459-9ACA-B3507B30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B6C-1AA0-494D-B126-6DC2C10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28D-3517-4E88-960B-2AF805CD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F05-4591-4F20-9F11-B99EBA46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AB9-D7C3-4848-923E-A40B70EB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AA8-28C0-4FF4-80BF-7039EBB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CA2-FCAB-4024-938F-57BAF8C5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A9C-4B14-4B25-876B-F44624EA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AC3-7429-4665-B1D0-1FDC8503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DC2-9B04-4A0D-A0F4-6EFF6EF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7B0-1C1E-4860-AFB9-FD6901C6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9A0-F4D4-45F9-846A-53207252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35FD4-583A-4980-BE31-3DDB033A9A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