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24158"/>
        <c:axId val="41898753"/>
      </c:barChart>
      <c:catAx>
        <c:axId val="20824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98753"/>
        <c:crosses val="autoZero"/>
        <c:auto val="1"/>
        <c:lblAlgn val="ctr"/>
        <c:lblOffset val="100"/>
        <c:noMultiLvlLbl val="0"/>
      </c:catAx>
      <c:valAx>
        <c:axId val="41898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4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92C-840F-44E1-8CB7-B22A4488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5FB-BC12-43D6-9D2B-1134DCD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714-9E5E-4B08-8B4D-42470BD2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70D-B31F-4AD1-B58D-3393A89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3E7-F8FC-484D-B0DA-E2BD7561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01B-B0F8-48A3-AFB5-BAF40578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B43-45EC-4FF0-B333-F91E2C8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A2D-CAAC-492E-A1FF-8FA4116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764-F703-43CA-A2E8-74DD4D4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1E8-AFC3-4916-BABC-5C8FB63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AAD-7524-4D65-A1DB-FC339F5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808-01CA-44DF-83B5-7478154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755ED-4FCC-4056-BCB7-012737E14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